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3DE-FD4A-47B1-8DA7-80703A6D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AD0-6A80-4370-AFB2-001F8ABD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39E-BD2E-4BFE-B82D-46980C2C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8A9-FB64-4101-9474-010A0DAB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357-EB93-4A01-8085-134369B7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DD9-DC48-4C5D-86A0-68169C80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7DD-641F-4EAF-830E-DF5AE591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82B-C559-431B-92BC-CB487353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153-6797-40FF-936A-FAAE1177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E62-5657-47A7-9441-F4840504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F51-02AA-4EA2-B351-C05F9D9B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637-F438-4AF9-B753-728764AF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E9E2-1593-4BDE-A213-BF956450B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ess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’s and Don’ts to dressing at San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 shirts must be tucked into pants and sh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agging and bagging is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r a b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the pant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adgear is for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glasses are cool for the beach, but not fo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e the hats, rags, and bandanas for Friday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Too Tight, Too short, or Too Revealing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Too much for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Give our boys a brea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thing with holes, see through materials, strapless tops, tank and spaghetti straps are way too distra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thing showing cleavage, bellies, or lower is too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tight and Righ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belts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pants and skirts at wais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hoes tied and fast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Violence, Intimidation, Sexually Demeaning Messages, and Drug Use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thing and items worn with these messages is just not O.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5:26:43Z</dcterms:created>
  <dc:creator>LCS_user</dc:creator>
  <dc:description/>
  <dc:language>en-US</dc:language>
  <cp:lastModifiedBy>LCS_user</cp:lastModifiedBy>
  <dcterms:modified xsi:type="dcterms:W3CDTF">2008-08-21T17:06:22Z</dcterms:modified>
  <cp:revision>5</cp:revision>
  <dc:subject/>
  <dc:title>Dress Code</dc:title>
</cp:coreProperties>
</file>